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A3E-1896-46AD-9E93-D9E1074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F56-043C-45ED-B5C4-CD900A9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142-D733-4E18-8734-68BE6D79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678-B127-4281-B2D5-B5D48A60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223E-D285-43AE-8A29-E93A0A53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23E3-F3CA-4674-AB7F-47580FB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B1AD-3C64-4F03-9087-8EE8BED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A337-9E93-46F1-AF93-5F09CC3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0C4E-6BEE-4FA3-AAF9-643E903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462-9494-4064-B2B8-1B0A46B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ADE-7F58-4F2D-9EAC-7BADC94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DA9-36BF-4B35-95A1-0C4D1A5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E58-B394-4D3F-AEBB-B0D5352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499-1015-4466-9B7B-6FB4296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BD5B-5233-49E7-979B-AD9CFEC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D6A7-EEC3-4473-9D52-66057266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14E5-2B7A-48CC-BF95-CE92BB4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D46-ECB2-417A-8F28-310998D9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456-9095-4463-9AAE-46E2FAAA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96F-F91E-4708-9E4D-C942853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D2A-BEA6-45E4-8D22-0CB727B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F44-83A2-4B78-BA11-B246A9E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862-C4A4-465A-BACD-1ECFC60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4B3-4619-4032-8BD1-9C0FA34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D81-F982-4FD8-A018-26E767B08F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9FF-4728-4982-893C-51DB94A3FC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bout ch.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poets assignment i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. 3 fo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nkenstein Ch. 1 Ques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rrator’s background? What is his full name? Where is h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tory of the man's moth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ine Beau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How does the man feel toward his parents, and what responsibilities does he feel they had toward h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zabeth Laven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at is her story? What gift does the man's mother give h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Cl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at is his relati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Victor characterize the interests and characters of Clerval, Elizabeth, and himse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46:13Z</dcterms:created>
  <dc:creator>Angie</dc:creator>
  <dc:description/>
  <dc:language>en-US</dc:language>
  <cp:lastModifiedBy>Angie</cp:lastModifiedBy>
  <dcterms:modified xsi:type="dcterms:W3CDTF">2009-09-22T04:52:34Z</dcterms:modified>
  <cp:revision>1</cp:revision>
  <dc:subject/>
  <dc:title>English</dc:title>
</cp:coreProperties>
</file>